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46B-13E6-484F-B4D7-73B64B64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1408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A8A-2E4A-452A-8E19-669D8C20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648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434-7407-45B1-927D-F66B0BC0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54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08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54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08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D27-053B-48A4-A820-26718B65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0D83-6921-421A-B995-E26D0666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00000" y="2052720"/>
            <a:ext cx="82677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392A-ADCD-44CC-8F9C-04936FF4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82677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C37B-551A-4AAB-90E7-362B400F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07C7-A471-45DB-B70A-C92403D4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1B9C-E995-4DE9-A4A2-1C3D026B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588960"/>
            <a:ext cx="86281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EBC9-5617-4EE2-AD1D-1A99EFF6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CA40-477C-4BB0-8A0E-66B3850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052720"/>
            <a:ext cx="82677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A27-84E9-4472-A759-07C4E13E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648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FDCB-1F3E-49A4-A1BA-0BA4E486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EC59-78B4-4187-92FC-B00C4752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00000" y="411408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0663-68CB-441A-A110-22FCC678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648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D34C-27DE-42AD-B1CF-8834A004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54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08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000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54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08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3347-25AF-443F-BDC3-FF81B5F0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FD5B-11D7-47FC-8F5F-04F94B01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00000" y="2052720"/>
            <a:ext cx="82677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C90F-6D1E-4DE6-8A98-E1812EDE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82677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5C0C-B1AC-45A8-AE37-401356D3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009D-4CAD-4746-A953-1199FA52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66FB-B225-4512-BE8F-423CE103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82677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149-8C68-47DB-91AC-04B6E290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360" y="588960"/>
            <a:ext cx="86281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7FCC0-C115-4533-91C4-66EB0F0A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C133-4596-42DB-B52A-9D221BDB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3648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91B87-840A-4457-A3A3-88E2513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EF15-79EC-4700-8394-EA3ECD72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00000" y="411408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F1DE0-091C-453B-B582-795F371C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3648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4BC6-1FE0-4C22-87E4-F2337AC3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54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08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000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54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08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C8C1-0AFD-4E91-AB72-DF041B2B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EDA12-0C98-4B43-8510-5033D2FE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00000" y="2052720"/>
            <a:ext cx="82677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53126-554A-4D39-B731-CBCBA277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82677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598E0-B83C-4367-B7D2-225B632B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CE1-0636-460A-9E6F-AE959F11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3E92-8069-488B-B67F-E98FF2B6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F4EF4-DD90-4C46-9A84-41EB7431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360" y="588960"/>
            <a:ext cx="86281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92B1B-59A7-42B3-9255-46243438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3496F-53C8-497A-AE04-E6A860C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3648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11E67-7A04-433C-8071-2B005EA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A3D8-E615-4C48-8F62-95D1BC5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00000" y="411408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C12DA-ECC6-4361-AD2F-044CBCF6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3648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B138B-10F8-4671-A577-6CBC3A32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54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0800" y="205272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000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54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0800" y="4114080"/>
            <a:ext cx="266184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C3F78-EE07-4F5C-8CD4-C6BF77CE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5C9-9B89-477B-935B-EA0AD0F5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588960"/>
            <a:ext cx="86281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92D-F53A-4EF8-9B7D-DA416285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240-212A-4412-A585-F5E3DB55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6480" y="411408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D55-1FC1-4C39-8B9A-3E587A7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6480" y="2052720"/>
            <a:ext cx="40345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14080"/>
            <a:ext cx="826776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8EA-23FE-407B-ACFC-01693EE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B464E-010A-4141-B8A4-BA1E03149D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36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59C6F-43AA-49ED-AEF4-BC06F54DBB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588960"/>
            <a:ext cx="8628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0000" y="2052720"/>
            <a:ext cx="82677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0000"/>
          </a:bodyPr>
          <a:p>
            <a:pPr marL="30852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520" indent="-308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08520" indent="-308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08520" indent="-308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520" indent="-308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8520" indent="-308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8520" indent="-308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91640" y="641952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82640" y="641952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2080" y="6419520"/>
            <a:ext cx="23349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0759A-0EF6-41D9-8469-9E79C3AE2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47640" y="1913040"/>
            <a:ext cx="8672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11360" y="6527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5464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A4492-2F44-48B4-AD24-7BB13D603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iography.com/people/james-otis-9430449" TargetMode="External"/><Relationship Id="rId3" Type="http://schemas.openxmlformats.org/officeDocument/2006/relationships/hyperlink" Target="http://www.u-s-history.com/pages/h1204.html" TargetMode="External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James Ot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4760" y="182880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5160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43000"/>
            <a:ext cx="937260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405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y Matthe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657600" y="365760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0720" y="635040"/>
            <a:ext cx="86407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Special Tal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2052360"/>
            <a:ext cx="828036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20840" indent="-316080">
              <a:lnSpc>
                <a:spcPct val="98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James Otis stood up for what he believed in and is famous for his quote “Taxation without representation is tyranny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0720" y="569880"/>
            <a:ext cx="864072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How many kids did FF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9640" y="2052360"/>
            <a:ext cx="828036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20840" indent="-316080">
              <a:lnSpc>
                <a:spcPct val="98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James Otis did not have any childr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64072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Simplified Arabic Fixed"/>
              </a:rPr>
              <a:t>How did FF become involved in the Declaration Of Independence?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248904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4000"/>
          </a:bodyPr>
          <a:p>
            <a:pPr marL="399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297000">
              <a:lnSpc>
                <a:spcPct val="98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valdi"/>
              </a:rPr>
              <a:t>James Otis just joined the Sons Of Liberty without aski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The signers wer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Benjamin Franklin,Samuel Adams,john Adams,Gorge Washington,James Otis,and Paul Rev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772400" y="6858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0720" y="633240"/>
            <a:ext cx="863424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827424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33264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stral"/>
              </a:rPr>
              <a:t>Dear Jou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17240" indent="0">
              <a:lnSpc>
                <a:spcPct val="100000"/>
              </a:lnSpc>
              <a:spcAft>
                <a:spcPts val="850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stral"/>
              </a:rPr>
              <a:t>The Sons of liberty are talking about going to war with the 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3991320" indent="0">
              <a:lnSpc>
                <a:spcPct val="100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3991320" indent="0">
              <a:lnSpc>
                <a:spcPct val="100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stral"/>
              </a:rPr>
              <a:t>Signed James Ot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20720" y="633240"/>
            <a:ext cx="863424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Journal #2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2052720"/>
            <a:ext cx="827424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stral"/>
              </a:rPr>
              <a:t>Dear Jou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17240" indent="0">
              <a:lnSpc>
                <a:spcPct val="95000"/>
              </a:lnSpc>
              <a:spcAft>
                <a:spcPts val="850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stral"/>
              </a:rPr>
              <a:t>The king has started taxing all the people of Boston because of the tea damage to the t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399132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991320" indent="-44028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 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James O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0720" y="632880"/>
            <a:ext cx="86328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Journal #3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99640" y="2052720"/>
            <a:ext cx="827244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Dear Jour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0" indent="0">
              <a:lnSpc>
                <a:spcPct val="95000"/>
              </a:lnSpc>
              <a:spcAft>
                <a:spcPts val="850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The revolutionary war has begun but I did not get in it so I could 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0" indent="0">
              <a:lnSpc>
                <a:spcPct val="95000"/>
              </a:lnSpc>
              <a:spcAft>
                <a:spcPts val="850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41148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stral"/>
              </a:rPr>
              <a:t>Signed James Ot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0720" y="632880"/>
            <a:ext cx="86328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Journal #4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99640" y="2124000"/>
            <a:ext cx="827244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3358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Dear Jour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40280" indent="0">
              <a:lnSpc>
                <a:spcPct val="95000"/>
              </a:lnSpc>
              <a:spcAft>
                <a:spcPts val="850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The revolutionary war is over and we are free from the kings rule Hooooooorrrrrrraaaaaayyyy!!!!!!!!!!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40323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Signed James O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635040"/>
            <a:ext cx="86407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Simplified Arabic Fixed"/>
              </a:rPr>
              <a:t>Resources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biography.com/people/james-otis-94304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Handwriting"/>
              </a:rPr>
              <a:t>The New Book Of Knowl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u-s-history.com/pages/h1204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Handwriting"/>
              </a:rPr>
              <a:t>http://www.school.eb.com/elementary/search?query=james+otis&amp;ct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5029200"/>
            <a:ext cx="6492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Handwriting"/>
              </a:rPr>
              <a:t>http://www.newworldencyclopedia.org/entry/James_O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0720" y="635040"/>
            <a:ext cx="86407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Simplified Arabic Fixed"/>
              </a:rPr>
              <a:t>Pictures Of James Otis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400800" y="434340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85800" y="1600200"/>
            <a:ext cx="57150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41040" y="60120"/>
            <a:ext cx="8202600" cy="1936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James Otis birth date (where he died to) and death 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ivaldi"/>
              </a:rPr>
              <a:t>James Otis was born on February 5, 1725 in Barnstable,Massachuse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75360" y="1828440"/>
            <a:ext cx="442584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valdi"/>
                <a:ea typeface="Arial Unicode MS"/>
              </a:rPr>
              <a:t>James Otis died on May 23</a:t>
            </a:r>
            <a:r>
              <a:rPr b="0" lang="en-US" sz="3600" spc="-1" strike="noStrike" baseline="33000">
                <a:solidFill>
                  <a:srgbClr val="000000"/>
                </a:solidFill>
                <a:latin typeface="Vivaldi"/>
                <a:ea typeface="Arial Unicode MS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Vivaldi"/>
                <a:ea typeface="Arial Unicode MS"/>
              </a:rPr>
              <a:t> 1783 when he got struck by a bolt of light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992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FF profession/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3000" y="1730520"/>
            <a:ext cx="87692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James Otis was a great lawyer because his parent's wanted him to get good mone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257800" y="305604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0720" y="63324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9960" y="1600200"/>
            <a:ext cx="4040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86000"/>
          </a:bodyPr>
          <a:p>
            <a:pPr marL="294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James Otis went crazy after a man hit Otis on the head with a ca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James Otis's sister's name was Merc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29200" y="1599840"/>
            <a:ext cx="415296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  <a:ea typeface="Arial Unicode MS"/>
              </a:rPr>
              <a:t>James Otis's real name is James Otis J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720" y="569880"/>
            <a:ext cx="864072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James Otis's spouses name and profession/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99640" y="1977840"/>
            <a:ext cx="8280360" cy="410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057400"/>
            <a:ext cx="4114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James Otis's wife;s name was Ruth Cunningham before they got married and her profession/job was as a buissness ag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260280"/>
            <a:ext cx="90694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FF parent's names occupation/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2584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James Otis was his father's name and his mothers name was Mary Ally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88920" y="45720"/>
            <a:ext cx="792648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Socio-economic status (were they rich  middle class or poo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599840"/>
            <a:ext cx="8869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James Otis was in the middle class range (Which means he had money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274320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3014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Did FF fight in the war?How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30520"/>
            <a:ext cx="828036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James Otis did not fight in the revolutionary wa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0720" y="569880"/>
            <a:ext cx="864072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plified Arabic Fixed"/>
              </a:rPr>
              <a:t>How many years did FF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3280" y="2057040"/>
            <a:ext cx="828036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20840" indent="-316080">
              <a:lnSpc>
                <a:spcPct val="98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valdi"/>
              </a:rPr>
              <a:t>James Otis life span was from (1725-1783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7:24:55Z</dcterms:created>
  <dc:creator/>
  <dc:description/>
  <dc:language>en-US</dc:language>
  <cp:lastModifiedBy/>
  <cp:revision>0</cp:revision>
  <dc:subject/>
  <dc:title/>
</cp:coreProperties>
</file>